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AC0E-CFE9-4633-B8E1-AFB355B7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0873-6E47-4E55-A511-765FDFD8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A29C-5C72-4F4C-A0D9-EE3DACB9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E6BD-E217-4508-9DB9-D7BD5B02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CD7D-B9C1-4450-921C-81C0C9CA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9F72-60B9-4819-9E24-082CAC9F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4CEE-B574-41F2-94E6-A199803A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FD2E-AF53-40B5-AAD6-B5F52E7F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3F05-72A0-4D13-A364-83C38707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E66D-818A-44F8-83FA-7A6684FC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BF1E-1613-43C6-94DB-DEFC9B49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238D-B99A-4148-B7BC-BDC8D739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BEEB-52C2-4116-A7F0-0A7B2A1F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62DC-5386-437D-AF89-9C4DA991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44FB-0CCE-47DD-A3B1-47EF349E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21CA-AE65-4A4D-81DF-9B9C02F9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815F-E303-4D4D-8EA3-E491D5B3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4689-6F9A-4D72-87D3-22EBC6D7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A95C-9F4A-4DEA-8D0B-993097B8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9FB5-F7E1-4458-9CF4-E58F8F7E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2481-1BC2-4432-9AA1-FD6C6B4C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B3D9-31E4-4B06-8F4C-B52EDA65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B363-2561-4A2F-A653-1E221C1B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F32E-9E63-4057-9144-B8E326A6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7-3: Special Right Tri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C9E5-359F-4495-A63A-42718B65E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7-3: Special Right Tri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DA57-957E-48FF-9C00-BC9A80086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Right Tri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9796-752E-4AB2-B2EB-757F8E040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.8.2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85800" y="220968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Special Right Triang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7"/>
          <p:cNvGraphicFramePr/>
          <p:nvPr/>
        </p:nvGraphicFramePr>
        <p:xfrm>
          <a:off x="6781680" y="5410080"/>
          <a:ext cx="1852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410080"/>
                    <a:ext cx="1852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Right Tri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9028-F53B-413B-8994-043CB6B64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5°-45°-90° Special Right Triangle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triang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°-45°-90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ypotenuse is        times as long as a le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17"/>
          <p:cNvGraphicFramePr/>
          <p:nvPr/>
        </p:nvGraphicFramePr>
        <p:xfrm>
          <a:off x="7315200" y="3733920"/>
          <a:ext cx="38088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3733920"/>
                    <a:ext cx="3808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6248520" y="1905120"/>
          <a:ext cx="4572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1905120"/>
                    <a:ext cx="4572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AutoShape 6"/>
          <p:cNvSpPr/>
          <p:nvPr/>
        </p:nvSpPr>
        <p:spPr>
          <a:xfrm>
            <a:off x="1523880" y="3200400"/>
            <a:ext cx="2895840" cy="2514600"/>
          </a:xfrm>
          <a:prstGeom prst="rtTriangle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152388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1981080" y="5257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rc 9"/>
          <p:cNvSpPr/>
          <p:nvPr/>
        </p:nvSpPr>
        <p:spPr>
          <a:xfrm rot="7218600">
            <a:off x="1149120" y="3127320"/>
            <a:ext cx="609840" cy="914400"/>
          </a:xfrm>
          <a:custGeom>
            <a:avLst/>
            <a:gdLst>
              <a:gd name="textAreaLeft" fmla="*/ 0 w 609840"/>
              <a:gd name="textAreaRight" fmla="*/ 610200 w 609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14377" h="21600">
                <a:moveTo>
                  <a:pt x="-1" y="0"/>
                </a:moveTo>
                <a:cubicBezTo>
                  <a:pt x="5302" y="0"/>
                  <a:pt x="10419" y="1950"/>
                  <a:pt x="14377" y="5479"/>
                </a:cubicBezTo>
              </a:path>
              <a:path stroke="0" w="14377" h="21600">
                <a:moveTo>
                  <a:pt x="-1" y="0"/>
                </a:moveTo>
                <a:cubicBezTo>
                  <a:pt x="5302" y="0"/>
                  <a:pt x="10419" y="1950"/>
                  <a:pt x="14377" y="547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4952880" y="35053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rc 11"/>
          <p:cNvSpPr/>
          <p:nvPr/>
        </p:nvSpPr>
        <p:spPr>
          <a:xfrm rot="16510200">
            <a:off x="4241880" y="4901400"/>
            <a:ext cx="477720" cy="1341720"/>
          </a:xfrm>
          <a:custGeom>
            <a:avLst/>
            <a:gdLst>
              <a:gd name="textAreaLeft" fmla="*/ 0 w 477720"/>
              <a:gd name="textAreaRight" fmla="*/ 478080 w 477720"/>
              <a:gd name="textAreaTop" fmla="*/ 0 h 1341720"/>
              <a:gd name="textAreaBottom" fmla="*/ 1342080 h 1341720"/>
            </a:gdLst>
            <a:ahLst/>
            <a:rect l="textAreaLeft" t="textAreaTop" r="textAreaRight" b="textAreaBottom"/>
            <a:pathLst>
              <a:path fill="none" w="11284" h="21600">
                <a:moveTo>
                  <a:pt x="-1" y="89"/>
                </a:moveTo>
                <a:cubicBezTo>
                  <a:pt x="653" y="29"/>
                  <a:pt x="1310" y="-1"/>
                  <a:pt x="1967" y="0"/>
                </a:cubicBezTo>
                <a:cubicBezTo>
                  <a:pt x="5191" y="0"/>
                  <a:pt x="8375" y="721"/>
                  <a:pt x="11284" y="2112"/>
                </a:cubicBezTo>
              </a:path>
              <a:path stroke="0" w="11284" h="21600">
                <a:moveTo>
                  <a:pt x="-1" y="89"/>
                </a:moveTo>
                <a:cubicBezTo>
                  <a:pt x="653" y="29"/>
                  <a:pt x="1310" y="-1"/>
                  <a:pt x="1967" y="0"/>
                </a:cubicBezTo>
                <a:cubicBezTo>
                  <a:pt x="5191" y="0"/>
                  <a:pt x="8375" y="721"/>
                  <a:pt x="11284" y="2112"/>
                </a:cubicBezTo>
                <a:lnTo>
                  <a:pt x="1967" y="21600"/>
                </a:lnTo>
                <a:lnTo>
                  <a:pt x="-1" y="89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167652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3200400" y="5181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2895480" y="3886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33526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99072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1"/>
          <p:cNvSpPr/>
          <p:nvPr/>
        </p:nvSpPr>
        <p:spPr>
          <a:xfrm flipV="1">
            <a:off x="2743200" y="5788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6858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3"/>
          <p:cNvSpPr/>
          <p:nvPr/>
        </p:nvSpPr>
        <p:spPr>
          <a:xfrm>
            <a:off x="198108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5943600" y="2514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6019920" y="3200400"/>
            <a:ext cx="2209680" cy="1828800"/>
          </a:xfrm>
          <a:prstGeom prst="rtTriangl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26"/>
          <p:cNvSpPr/>
          <p:nvPr/>
        </p:nvSpPr>
        <p:spPr>
          <a:xfrm>
            <a:off x="6019920" y="4648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27"/>
          <p:cNvSpPr/>
          <p:nvPr/>
        </p:nvSpPr>
        <p:spPr>
          <a:xfrm>
            <a:off x="6477120" y="4648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601992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739152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5334120" y="40384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2"/>
          <p:cNvSpPr/>
          <p:nvPr/>
        </p:nvSpPr>
        <p:spPr>
          <a:xfrm>
            <a:off x="6781680" y="50292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3"/>
          <p:cNvSpPr/>
          <p:nvPr/>
        </p:nvSpPr>
        <p:spPr>
          <a:xfrm>
            <a:off x="716292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    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37"/>
          <p:cNvGraphicFramePr/>
          <p:nvPr/>
        </p:nvGraphicFramePr>
        <p:xfrm>
          <a:off x="3657600" y="4419720"/>
          <a:ext cx="457200" cy="40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Object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4419720"/>
                    <a:ext cx="45720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Right Tri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8F8C-34CC-463C-ADDC-BAA666626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3960" y="-228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 Black"/>
              </a:rPr>
              <a:t>30°-60°-90° Special Right Triangle</a:t>
            </a:r>
            <a:endParaRPr b="0" lang="en-US" sz="2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°-60°-90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le, the hypotenuse  is twice as long as the short leg, and the long leg is        times as long as the shorter le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2057400" y="2133720"/>
            <a:ext cx="1905120" cy="3886200"/>
          </a:xfrm>
          <a:prstGeom prst="rtTriangle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2057400" y="55627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2514600" y="5562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952880" y="35053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200400" y="5562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057400" y="299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289548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1219320" y="4648320"/>
            <a:ext cx="968040" cy="459720"/>
            <a:chOff x="1219320" y="4648320"/>
            <a:chExt cx="968040" cy="459720"/>
          </a:xfrm>
        </p:grpSpPr>
        <p:graphicFrame>
          <p:nvGraphicFramePr>
            <p:cNvPr id="141" name="Object 13"/>
            <p:cNvGraphicFramePr/>
            <p:nvPr/>
          </p:nvGraphicFramePr>
          <p:xfrm>
            <a:off x="1560240" y="4705200"/>
            <a:ext cx="627120" cy="32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60240" y="4705200"/>
                      <a:ext cx="627120" cy="32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Text Box 14"/>
            <p:cNvSpPr/>
            <p:nvPr/>
          </p:nvSpPr>
          <p:spPr>
            <a:xfrm>
              <a:off x="1219320" y="4648320"/>
              <a:ext cx="59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Text Box 15"/>
          <p:cNvSpPr/>
          <p:nvPr/>
        </p:nvSpPr>
        <p:spPr>
          <a:xfrm>
            <a:off x="335268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380880" y="4191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Long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2438280" y="64008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hort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18"/>
          <p:cNvGraphicFramePr/>
          <p:nvPr/>
        </p:nvGraphicFramePr>
        <p:xfrm>
          <a:off x="3448080" y="1257480"/>
          <a:ext cx="495360" cy="49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8080" y="1257480"/>
                    <a:ext cx="49536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9"/>
          <p:cNvSpPr/>
          <p:nvPr/>
        </p:nvSpPr>
        <p:spPr>
          <a:xfrm>
            <a:off x="2895480" y="6019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20"/>
          <p:cNvGraphicFramePr/>
          <p:nvPr/>
        </p:nvGraphicFramePr>
        <p:xfrm>
          <a:off x="5180040" y="4556160"/>
          <a:ext cx="306720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0040" y="4556160"/>
                    <a:ext cx="30672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21"/>
          <p:cNvGraphicFramePr/>
          <p:nvPr/>
        </p:nvGraphicFramePr>
        <p:xfrm>
          <a:off x="5502240" y="3930480"/>
          <a:ext cx="2637000" cy="49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02240" y="3930480"/>
                    <a:ext cx="26370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Right Tri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C0D0-86F2-420C-9F77-09948BD23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°-60°-90° Special Right Triangle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triangl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°-60°-90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hypotenuse  is twice as long as the shorter leg, and the longer leg is        times as long as the shorter l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2057400" y="3200400"/>
            <a:ext cx="1752480" cy="2514600"/>
          </a:xfrm>
          <a:prstGeom prst="rtTriangle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2057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2514600" y="5257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rc 10"/>
          <p:cNvSpPr/>
          <p:nvPr/>
        </p:nvSpPr>
        <p:spPr>
          <a:xfrm rot="7218600">
            <a:off x="1734120" y="3209040"/>
            <a:ext cx="403200" cy="928800"/>
          </a:xfrm>
          <a:custGeom>
            <a:avLst/>
            <a:gdLst>
              <a:gd name="textAreaLeft" fmla="*/ 0 w 403200"/>
              <a:gd name="textAreaRight" fmla="*/ 403560 w 4032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fill="none" w="14377" h="21600">
                <a:moveTo>
                  <a:pt x="-1" y="0"/>
                </a:moveTo>
                <a:cubicBezTo>
                  <a:pt x="5302" y="0"/>
                  <a:pt x="10419" y="1950"/>
                  <a:pt x="14377" y="5479"/>
                </a:cubicBezTo>
              </a:path>
              <a:path stroke="0" w="14377" h="21600">
                <a:moveTo>
                  <a:pt x="-1" y="0"/>
                </a:moveTo>
                <a:cubicBezTo>
                  <a:pt x="5302" y="0"/>
                  <a:pt x="10419" y="1950"/>
                  <a:pt x="14377" y="547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952880" y="35053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rc 12"/>
          <p:cNvSpPr/>
          <p:nvPr/>
        </p:nvSpPr>
        <p:spPr>
          <a:xfrm rot="16510200">
            <a:off x="3724200" y="4749120"/>
            <a:ext cx="477720" cy="1392480"/>
          </a:xfrm>
          <a:custGeom>
            <a:avLst/>
            <a:gdLst>
              <a:gd name="textAreaLeft" fmla="*/ 0 w 477720"/>
              <a:gd name="textAreaRight" fmla="*/ 478080 w 477720"/>
              <a:gd name="textAreaTop" fmla="*/ 0 h 1392480"/>
              <a:gd name="textAreaBottom" fmla="*/ 1392840 h 1392480"/>
            </a:gdLst>
            <a:ahLst/>
            <a:rect l="textAreaLeft" t="textAreaTop" r="textAreaRight" b="textAreaBottom"/>
            <a:pathLst>
              <a:path fill="none" w="11284" h="21600">
                <a:moveTo>
                  <a:pt x="-1" y="89"/>
                </a:moveTo>
                <a:cubicBezTo>
                  <a:pt x="653" y="29"/>
                  <a:pt x="1310" y="-1"/>
                  <a:pt x="1967" y="0"/>
                </a:cubicBezTo>
                <a:cubicBezTo>
                  <a:pt x="5191" y="0"/>
                  <a:pt x="8375" y="721"/>
                  <a:pt x="11284" y="2112"/>
                </a:cubicBezTo>
              </a:path>
              <a:path stroke="0" w="11284" h="21600">
                <a:moveTo>
                  <a:pt x="-1" y="89"/>
                </a:moveTo>
                <a:cubicBezTo>
                  <a:pt x="653" y="29"/>
                  <a:pt x="1310" y="-1"/>
                  <a:pt x="1967" y="0"/>
                </a:cubicBezTo>
                <a:cubicBezTo>
                  <a:pt x="5191" y="0"/>
                  <a:pt x="8375" y="721"/>
                  <a:pt x="11284" y="2112"/>
                </a:cubicBezTo>
                <a:lnTo>
                  <a:pt x="1967" y="21600"/>
                </a:lnTo>
                <a:lnTo>
                  <a:pt x="-1" y="89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030400" y="3809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3157560" y="530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289548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43"/>
          <p:cNvGrpSpPr/>
          <p:nvPr/>
        </p:nvGrpSpPr>
        <p:grpSpPr>
          <a:xfrm>
            <a:off x="1295280" y="4648320"/>
            <a:ext cx="704880" cy="476280"/>
            <a:chOff x="1295280" y="4648320"/>
            <a:chExt cx="704880" cy="476280"/>
          </a:xfrm>
        </p:grpSpPr>
        <p:graphicFrame>
          <p:nvGraphicFramePr>
            <p:cNvPr id="169" name="Object 33"/>
            <p:cNvGraphicFramePr/>
            <p:nvPr/>
          </p:nvGraphicFramePr>
          <p:xfrm>
            <a:off x="1600200" y="4724640"/>
            <a:ext cx="399960" cy="399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" name="Object 3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4724640"/>
                      <a:ext cx="3999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Text Box 16"/>
            <p:cNvSpPr/>
            <p:nvPr/>
          </p:nvSpPr>
          <p:spPr>
            <a:xfrm>
              <a:off x="1295280" y="4648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17"/>
          <p:cNvSpPr/>
          <p:nvPr/>
        </p:nvSpPr>
        <p:spPr>
          <a:xfrm>
            <a:off x="2971800" y="3976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8"/>
          <p:cNvSpPr/>
          <p:nvPr/>
        </p:nvSpPr>
        <p:spPr>
          <a:xfrm flipV="1">
            <a:off x="2705040" y="5723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380880" y="4191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Longer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2332080" y="603576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horter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5943600" y="3276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2"/>
          <p:cNvSpPr/>
          <p:nvPr/>
        </p:nvSpPr>
        <p:spPr>
          <a:xfrm>
            <a:off x="6172200" y="4038480"/>
            <a:ext cx="1409760" cy="1814760"/>
          </a:xfrm>
          <a:prstGeom prst="rtTriangl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23"/>
          <p:cNvSpPr/>
          <p:nvPr/>
        </p:nvSpPr>
        <p:spPr>
          <a:xfrm>
            <a:off x="6172200" y="5486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24"/>
          <p:cNvSpPr/>
          <p:nvPr/>
        </p:nvSpPr>
        <p:spPr>
          <a:xfrm>
            <a:off x="6629400" y="5486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6102360" y="42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689616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7086600" y="447984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8"/>
          <p:cNvSpPr/>
          <p:nvPr/>
        </p:nvSpPr>
        <p:spPr>
          <a:xfrm>
            <a:off x="6705720" y="5867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31"/>
          <p:cNvGraphicFramePr/>
          <p:nvPr/>
        </p:nvGraphicFramePr>
        <p:xfrm>
          <a:off x="7086600" y="2286000"/>
          <a:ext cx="49536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2286000"/>
                    <a:ext cx="495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Line 35"/>
          <p:cNvSpPr/>
          <p:nvPr/>
        </p:nvSpPr>
        <p:spPr>
          <a:xfrm>
            <a:off x="2438280" y="4267080"/>
            <a:ext cx="83844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36"/>
          <p:cNvSpPr/>
          <p:nvPr/>
        </p:nvSpPr>
        <p:spPr>
          <a:xfrm flipH="1" flipV="1">
            <a:off x="2133720" y="4648320"/>
            <a:ext cx="1218960" cy="6537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37"/>
          <p:cNvSpPr/>
          <p:nvPr/>
        </p:nvSpPr>
        <p:spPr>
          <a:xfrm flipV="1">
            <a:off x="2514600" y="4495320"/>
            <a:ext cx="838080" cy="6858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44"/>
          <p:cNvGrpSpPr/>
          <p:nvPr/>
        </p:nvGrpSpPr>
        <p:grpSpPr>
          <a:xfrm>
            <a:off x="5181480" y="4724280"/>
            <a:ext cx="1143000" cy="398880"/>
            <a:chOff x="5181480" y="4724280"/>
            <a:chExt cx="1143000" cy="398880"/>
          </a:xfrm>
        </p:grpSpPr>
        <p:sp>
          <p:nvSpPr>
            <p:cNvPr id="190" name="Text Box 29"/>
            <p:cNvSpPr/>
            <p:nvPr/>
          </p:nvSpPr>
          <p:spPr>
            <a:xfrm>
              <a:off x="5181480" y="47242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      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39"/>
            <p:cNvGraphicFramePr/>
            <p:nvPr/>
          </p:nvGraphicFramePr>
          <p:xfrm>
            <a:off x="5410080" y="4724280"/>
            <a:ext cx="380880" cy="380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3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10080" y="4724280"/>
                      <a:ext cx="38088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Right Tri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740B-219E-4E68-BA2A-78BE4B51A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nd the value of a and b.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2057400" y="1828800"/>
            <a:ext cx="2209680" cy="1981080"/>
          </a:xfrm>
          <a:prstGeom prst="rtTriangle">
            <a:avLst/>
          </a:prstGeom>
          <a:solidFill>
            <a:srgbClr val="d6e0e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2057400" y="34290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2438280" y="3429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05740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1219320" y="22860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28195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342900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1752480" y="43434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1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nd the missing angle meas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6400800" y="4343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3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3429000" y="3429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 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1752480" y="47242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2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de which special right triangle appl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7162920" y="47242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30°-60°-9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1752480" y="518148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3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 the 30°-60°-90° pattern with the proble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9"/>
          <p:cNvSpPr/>
          <p:nvPr/>
        </p:nvSpPr>
        <p:spPr>
          <a:xfrm>
            <a:off x="6095880" y="1981080"/>
            <a:ext cx="1600200" cy="1752840"/>
          </a:xfrm>
          <a:prstGeom prst="rtTriangle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20"/>
          <p:cNvSpPr/>
          <p:nvPr/>
        </p:nvSpPr>
        <p:spPr>
          <a:xfrm>
            <a:off x="6095880" y="3276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21"/>
          <p:cNvSpPr/>
          <p:nvPr/>
        </p:nvSpPr>
        <p:spPr>
          <a:xfrm>
            <a:off x="6400800" y="3276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6095880" y="2286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7086600" y="3429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4"/>
          <p:cNvSpPr/>
          <p:nvPr/>
        </p:nvSpPr>
        <p:spPr>
          <a:xfrm>
            <a:off x="662940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6934320" y="2438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Object 28"/>
          <p:cNvGraphicFramePr/>
          <p:nvPr/>
        </p:nvGraphicFramePr>
        <p:xfrm>
          <a:off x="5334120" y="2752560"/>
          <a:ext cx="60948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752560"/>
                    <a:ext cx="609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Oval 30"/>
          <p:cNvSpPr/>
          <p:nvPr/>
        </p:nvSpPr>
        <p:spPr>
          <a:xfrm>
            <a:off x="6477120" y="3733920"/>
            <a:ext cx="685800" cy="4572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1"/>
          <p:cNvSpPr/>
          <p:nvPr/>
        </p:nvSpPr>
        <p:spPr>
          <a:xfrm>
            <a:off x="1143000" y="2286000"/>
            <a:ext cx="83808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34"/>
          <p:cNvSpPr/>
          <p:nvPr/>
        </p:nvSpPr>
        <p:spPr>
          <a:xfrm>
            <a:off x="5257800" y="2743200"/>
            <a:ext cx="838080" cy="53352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35"/>
          <p:cNvSpPr/>
          <p:nvPr/>
        </p:nvSpPr>
        <p:spPr>
          <a:xfrm>
            <a:off x="2743200" y="3809880"/>
            <a:ext cx="533520" cy="4572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AutoShape 39"/>
          <p:cNvCxnSpPr>
            <a:stCxn id="221" idx="6"/>
            <a:endCxn id="220" idx="3"/>
          </p:cNvCxnSpPr>
          <p:nvPr/>
        </p:nvCxnSpPr>
        <p:spPr>
          <a:xfrm flipV="1">
            <a:off x="3290760" y="3212280"/>
            <a:ext cx="2090160" cy="826200"/>
          </a:xfrm>
          <a:prstGeom prst="curvedConnector2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3" name="Oval 40"/>
          <p:cNvSpPr/>
          <p:nvPr/>
        </p:nvSpPr>
        <p:spPr>
          <a:xfrm>
            <a:off x="3276720" y="2590920"/>
            <a:ext cx="609480" cy="457200"/>
          </a:xfrm>
          <a:prstGeom prst="ellipse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41"/>
          <p:cNvSpPr/>
          <p:nvPr/>
        </p:nvSpPr>
        <p:spPr>
          <a:xfrm>
            <a:off x="6781680" y="2438280"/>
            <a:ext cx="762120" cy="457200"/>
          </a:xfrm>
          <a:prstGeom prst="ellipse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AutoShape 42"/>
          <p:cNvCxnSpPr>
            <a:stCxn id="223" idx="6"/>
            <a:endCxn id="224" idx="2"/>
          </p:cNvCxnSpPr>
          <p:nvPr/>
        </p:nvCxnSpPr>
        <p:spPr>
          <a:xfrm flipV="1">
            <a:off x="3900600" y="2666520"/>
            <a:ext cx="2867760" cy="153360"/>
          </a:xfrm>
          <a:prstGeom prst="bentConnector3">
            <a:avLst>
              <a:gd name="adj1" fmla="val 49993"/>
            </a:avLst>
          </a:prstGeom>
          <a:ln w="38160">
            <a:solidFill>
              <a:srgbClr val="003300"/>
            </a:solidFill>
            <a:miter/>
            <a:tailEnd len="med" type="triangle" w="med"/>
          </a:ln>
        </p:spPr>
      </p:cxnSp>
      <p:sp>
        <p:nvSpPr>
          <p:cNvPr id="226" name="Text Box 47"/>
          <p:cNvSpPr/>
          <p:nvPr/>
        </p:nvSpPr>
        <p:spPr>
          <a:xfrm>
            <a:off x="228600" y="36576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=        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48"/>
          <p:cNvSpPr/>
          <p:nvPr/>
        </p:nvSpPr>
        <p:spPr>
          <a:xfrm>
            <a:off x="228600" y="3429000"/>
            <a:ext cx="1523880" cy="838080"/>
          </a:xfrm>
          <a:prstGeom prst="wedgeRoundRectCallout">
            <a:avLst>
              <a:gd name="adj1" fmla="val 118333"/>
              <a:gd name="adj2" fmla="val 40717"/>
              <a:gd name="adj3" fmla="val 16667"/>
            </a:avLst>
          </a:prstGeom>
          <a:noFill/>
          <a:ln w="57240">
            <a:solidFill>
              <a:srgbClr val="6931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9"/>
          <p:cNvSpPr/>
          <p:nvPr/>
        </p:nvSpPr>
        <p:spPr>
          <a:xfrm>
            <a:off x="3962520" y="1905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 = 14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AutoShape 50"/>
          <p:cNvCxnSpPr>
            <a:stCxn id="219" idx="7"/>
            <a:endCxn id="218" idx="3"/>
          </p:cNvCxnSpPr>
          <p:nvPr/>
        </p:nvCxnSpPr>
        <p:spPr>
          <a:xfrm flipH="1" rot="16200000">
            <a:off x="3312000" y="873000"/>
            <a:ext cx="1811880" cy="4718520"/>
          </a:xfrm>
          <a:prstGeom prst="curvedConnector5">
            <a:avLst>
              <a:gd name="adj1" fmla="val -27861"/>
              <a:gd name="adj2" fmla="val 25652"/>
              <a:gd name="adj3" fmla="val -27861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30" name="AutoShape 52"/>
          <p:cNvSpPr/>
          <p:nvPr/>
        </p:nvSpPr>
        <p:spPr>
          <a:xfrm>
            <a:off x="3886200" y="1828800"/>
            <a:ext cx="1447920" cy="533520"/>
          </a:xfrm>
          <a:prstGeom prst="wedgeRoundRectCallout">
            <a:avLst>
              <a:gd name="adj1" fmla="val -58550"/>
              <a:gd name="adj2" fmla="val 108037"/>
              <a:gd name="adj3" fmla="val 16667"/>
            </a:avLst>
          </a:prstGeom>
          <a:noFill/>
          <a:ln w="57240">
            <a:solidFill>
              <a:srgbClr val="6931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3"/>
          <p:cNvSpPr/>
          <p:nvPr/>
        </p:nvSpPr>
        <p:spPr>
          <a:xfrm>
            <a:off x="1752480" y="59436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5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lve for a and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Object 54"/>
          <p:cNvGraphicFramePr/>
          <p:nvPr/>
        </p:nvGraphicFramePr>
        <p:xfrm>
          <a:off x="685800" y="3657600"/>
          <a:ext cx="533520" cy="39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5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657600"/>
                    <a:ext cx="5335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Group 60"/>
          <p:cNvGrpSpPr/>
          <p:nvPr/>
        </p:nvGrpSpPr>
        <p:grpSpPr>
          <a:xfrm>
            <a:off x="1752480" y="5562720"/>
            <a:ext cx="7162920" cy="398880"/>
            <a:chOff x="1752480" y="5562720"/>
            <a:chExt cx="7162920" cy="398880"/>
          </a:xfrm>
        </p:grpSpPr>
        <p:sp>
          <p:nvSpPr>
            <p:cNvPr id="235" name="Text Box 43"/>
            <p:cNvSpPr/>
            <p:nvPr/>
          </p:nvSpPr>
          <p:spPr>
            <a:xfrm>
              <a:off x="1752480" y="5562720"/>
              <a:ext cx="716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Times New Roman"/>
                </a:rPr>
                <a:t>Step 4: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From the pattern, we know that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 = 7 , b = 2x, and a = x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6" name="Object 57"/>
            <p:cNvGraphicFramePr/>
            <p:nvPr/>
          </p:nvGraphicFramePr>
          <p:xfrm>
            <a:off x="8381880" y="5562720"/>
            <a:ext cx="381240" cy="380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7" name="Object 5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81880" y="5562720"/>
                      <a:ext cx="3812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7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Right Tri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8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BCF6-A45F-4A2D-AACF-6A4F5CE42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nd the value of a and b.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41" name="Object 42"/>
          <p:cNvGraphicFramePr/>
          <p:nvPr/>
        </p:nvGraphicFramePr>
        <p:xfrm>
          <a:off x="2527200" y="2768760"/>
          <a:ext cx="241560" cy="21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7200" y="2768760"/>
                    <a:ext cx="24156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AutoShape 4"/>
          <p:cNvSpPr/>
          <p:nvPr/>
        </p:nvSpPr>
        <p:spPr>
          <a:xfrm>
            <a:off x="2057400" y="1828800"/>
            <a:ext cx="2209680" cy="1981080"/>
          </a:xfrm>
          <a:prstGeom prst="rtTriangle">
            <a:avLst/>
          </a:prstGeom>
          <a:solidFill>
            <a:srgbClr val="d6e0e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5"/>
          <p:cNvSpPr/>
          <p:nvPr/>
        </p:nvSpPr>
        <p:spPr>
          <a:xfrm>
            <a:off x="2057400" y="34290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2438280" y="3429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205740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1219320" y="22860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28195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342900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752480" y="43434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1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nd the missing angle meas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6400800" y="4343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45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3429000" y="3429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5 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1752480" y="47242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2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de which special right triangle appl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7162920" y="47242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45°-45°-9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752480" y="518148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3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 the 45°-45°-90° pattern with the proble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17"/>
          <p:cNvSpPr/>
          <p:nvPr/>
        </p:nvSpPr>
        <p:spPr>
          <a:xfrm>
            <a:off x="6095880" y="1981080"/>
            <a:ext cx="1600200" cy="1752840"/>
          </a:xfrm>
          <a:prstGeom prst="rtTriangle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8"/>
          <p:cNvSpPr/>
          <p:nvPr/>
        </p:nvSpPr>
        <p:spPr>
          <a:xfrm>
            <a:off x="6095880" y="3276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9"/>
          <p:cNvSpPr/>
          <p:nvPr/>
        </p:nvSpPr>
        <p:spPr>
          <a:xfrm>
            <a:off x="6400800" y="3276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6095880" y="2286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21"/>
          <p:cNvSpPr/>
          <p:nvPr/>
        </p:nvSpPr>
        <p:spPr>
          <a:xfrm>
            <a:off x="7086600" y="3429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2"/>
          <p:cNvSpPr/>
          <p:nvPr/>
        </p:nvSpPr>
        <p:spPr>
          <a:xfrm>
            <a:off x="662940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5486400" y="2743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4"/>
          <p:cNvSpPr/>
          <p:nvPr/>
        </p:nvSpPr>
        <p:spPr>
          <a:xfrm>
            <a:off x="6934320" y="2514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25"/>
          <p:cNvSpPr/>
          <p:nvPr/>
        </p:nvSpPr>
        <p:spPr>
          <a:xfrm>
            <a:off x="6477120" y="3733920"/>
            <a:ext cx="685800" cy="4572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26"/>
          <p:cNvSpPr/>
          <p:nvPr/>
        </p:nvSpPr>
        <p:spPr>
          <a:xfrm>
            <a:off x="1143000" y="2286000"/>
            <a:ext cx="83808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27"/>
          <p:cNvSpPr/>
          <p:nvPr/>
        </p:nvSpPr>
        <p:spPr>
          <a:xfrm>
            <a:off x="5410080" y="2819520"/>
            <a:ext cx="685800" cy="4572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28"/>
          <p:cNvSpPr/>
          <p:nvPr/>
        </p:nvSpPr>
        <p:spPr>
          <a:xfrm>
            <a:off x="2743200" y="3809880"/>
            <a:ext cx="533520" cy="4572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AutoShape 29"/>
          <p:cNvCxnSpPr>
            <a:stCxn id="267" idx="6"/>
            <a:endCxn id="266" idx="3"/>
          </p:cNvCxnSpPr>
          <p:nvPr/>
        </p:nvCxnSpPr>
        <p:spPr>
          <a:xfrm flipV="1">
            <a:off x="3290400" y="3223800"/>
            <a:ext cx="2220120" cy="815040"/>
          </a:xfrm>
          <a:prstGeom prst="curvedConnector2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69" name="Oval 30"/>
          <p:cNvSpPr/>
          <p:nvPr/>
        </p:nvSpPr>
        <p:spPr>
          <a:xfrm>
            <a:off x="3276720" y="2590920"/>
            <a:ext cx="609480" cy="457200"/>
          </a:xfrm>
          <a:prstGeom prst="ellipse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31"/>
          <p:cNvSpPr/>
          <p:nvPr/>
        </p:nvSpPr>
        <p:spPr>
          <a:xfrm>
            <a:off x="6858000" y="2514600"/>
            <a:ext cx="762120" cy="457200"/>
          </a:xfrm>
          <a:prstGeom prst="ellipse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AutoShape 32"/>
          <p:cNvCxnSpPr>
            <a:stCxn id="269" idx="6"/>
            <a:endCxn id="270" idx="2"/>
          </p:cNvCxnSpPr>
          <p:nvPr/>
        </p:nvCxnSpPr>
        <p:spPr>
          <a:xfrm flipV="1">
            <a:off x="3900240" y="2743200"/>
            <a:ext cx="2943720" cy="76680"/>
          </a:xfrm>
          <a:prstGeom prst="bentConnector3">
            <a:avLst>
              <a:gd name="adj1" fmla="val 50000"/>
            </a:avLst>
          </a:prstGeom>
          <a:ln w="38160">
            <a:solidFill>
              <a:srgbClr val="003300"/>
            </a:solidFill>
            <a:miter/>
            <a:tailEnd len="med" type="triangle" w="med"/>
          </a:ln>
        </p:spPr>
      </p:cxnSp>
      <p:sp>
        <p:nvSpPr>
          <p:cNvPr id="272" name="Text Box 33"/>
          <p:cNvSpPr/>
          <p:nvPr/>
        </p:nvSpPr>
        <p:spPr>
          <a:xfrm>
            <a:off x="1752480" y="55627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4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the pattern, we know tha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 = 7 , a = x, and b = x    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5"/>
          <p:cNvSpPr/>
          <p:nvPr/>
        </p:nvSpPr>
        <p:spPr>
          <a:xfrm>
            <a:off x="609480" y="3733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= 7 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36"/>
          <p:cNvSpPr/>
          <p:nvPr/>
        </p:nvSpPr>
        <p:spPr>
          <a:xfrm>
            <a:off x="609480" y="3505320"/>
            <a:ext cx="1143000" cy="761760"/>
          </a:xfrm>
          <a:prstGeom prst="wedgeRoundRectCallout">
            <a:avLst>
              <a:gd name="adj1" fmla="val 141111"/>
              <a:gd name="adj2" fmla="val 39791"/>
              <a:gd name="adj3" fmla="val 16667"/>
            </a:avLst>
          </a:prstGeom>
          <a:noFill/>
          <a:ln w="57240">
            <a:solidFill>
              <a:srgbClr val="6931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7"/>
          <p:cNvSpPr/>
          <p:nvPr/>
        </p:nvSpPr>
        <p:spPr>
          <a:xfrm>
            <a:off x="4114800" y="19051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 = 7     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AutoShape 38"/>
          <p:cNvCxnSpPr>
            <a:stCxn id="265" idx="7"/>
            <a:endCxn id="264" idx="3"/>
          </p:cNvCxnSpPr>
          <p:nvPr/>
        </p:nvCxnSpPr>
        <p:spPr>
          <a:xfrm flipH="1" rot="16200000">
            <a:off x="3312000" y="873000"/>
            <a:ext cx="1811880" cy="4718520"/>
          </a:xfrm>
          <a:prstGeom prst="curvedConnector5">
            <a:avLst>
              <a:gd name="adj1" fmla="val -27861"/>
              <a:gd name="adj2" fmla="val 25652"/>
              <a:gd name="adj3" fmla="val -27861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77" name="AutoShape 39"/>
          <p:cNvSpPr/>
          <p:nvPr/>
        </p:nvSpPr>
        <p:spPr>
          <a:xfrm>
            <a:off x="3886200" y="1828800"/>
            <a:ext cx="1676520" cy="533520"/>
          </a:xfrm>
          <a:prstGeom prst="wedgeRoundRectCallout">
            <a:avLst>
              <a:gd name="adj1" fmla="val -57384"/>
              <a:gd name="adj2" fmla="val 108037"/>
              <a:gd name="adj3" fmla="val 16667"/>
            </a:avLst>
          </a:prstGeom>
          <a:noFill/>
          <a:ln w="57240">
            <a:solidFill>
              <a:srgbClr val="6931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0"/>
          <p:cNvSpPr/>
          <p:nvPr/>
        </p:nvSpPr>
        <p:spPr>
          <a:xfrm>
            <a:off x="1752480" y="59436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5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lve for a and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Object 46"/>
          <p:cNvGraphicFramePr/>
          <p:nvPr/>
        </p:nvGraphicFramePr>
        <p:xfrm>
          <a:off x="7086600" y="2514600"/>
          <a:ext cx="457200" cy="4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2514600"/>
                    <a:ext cx="4572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48"/>
          <p:cNvGraphicFramePr/>
          <p:nvPr/>
        </p:nvGraphicFramePr>
        <p:xfrm>
          <a:off x="8229600" y="5533920"/>
          <a:ext cx="457200" cy="4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" name="Object 4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29600" y="5533920"/>
                    <a:ext cx="4572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49"/>
          <p:cNvGraphicFramePr/>
          <p:nvPr/>
        </p:nvGraphicFramePr>
        <p:xfrm>
          <a:off x="4724280" y="1828800"/>
          <a:ext cx="457200" cy="409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4" name="Object 4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1828800"/>
                    <a:ext cx="4572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22:59:07Z</dcterms:created>
  <dc:creator>Authorized User</dc:creator>
  <dc:description/>
  <dc:language>en-US</dc:language>
  <cp:lastModifiedBy>Cynthia H. Morgan</cp:lastModifiedBy>
  <dcterms:modified xsi:type="dcterms:W3CDTF">2014-02-03T21:41:25Z</dcterms:modified>
  <cp:revision>34</cp:revision>
  <dc:subject/>
  <dc:title>Lesson 7-3</dc:title>
</cp:coreProperties>
</file>